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179-32E9-4AF8-9DE6-5656E181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A21-4604-44F3-889F-1BF06137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1FC-155C-459D-994C-397A56F0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81F-A40E-480F-8FDC-9AC98291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403-5FEE-4396-B7E4-D539A022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3B9-E472-4BDB-AA71-D63A3A39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123-664C-477F-B799-96058DAB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1B5-C8BB-46B9-B998-B3A84AB4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D61-7861-42EA-A206-B7B54F4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E53-2022-4D2F-9EEC-E1E3D5C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067-65CE-4E23-A97B-30C984E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36C-DF71-4290-95DA-8CBDFA8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F157-31D0-4399-9EF5-0C89B133DB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ational Health Servi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care in the United King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Vruti Datt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.thisislondon.co.uk/i/pix/2007/11/nhs_415x275.jpg"/>
          <p:cNvPicPr/>
          <p:nvPr/>
        </p:nvPicPr>
        <p:blipFill>
          <a:blip r:embed="rId1"/>
          <a:stretch/>
        </p:blipFill>
        <p:spPr>
          <a:xfrm>
            <a:off x="4429080" y="2714760"/>
            <a:ext cx="221472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QI7gGy-pRknvsNan1J4n6ha1qmvijfx1Bi4FEZf9nelHkI5_M&amp;t=1&amp;usg=__HTRlgcH0IPpPh-dXpMKbLbkQq7Y="/>
          <p:cNvPicPr/>
          <p:nvPr/>
        </p:nvPicPr>
        <p:blipFill>
          <a:blip r:embed="rId2"/>
          <a:stretch/>
        </p:blipFill>
        <p:spPr>
          <a:xfrm>
            <a:off x="1857240" y="257184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and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artment of Health, headed by Secretary of State for Health: Andrew Lan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0.gstatic.com/images?q=tbn:ANd9GcSnyTdCx0K4ovjIHxiEpdOvZNHnO7hR3n9JfSAVwrmQr8qv2bk&amp;t=1&amp;usg=__0u5EgAnl4osUlCmXbFQP8olE9M0="/>
          <p:cNvPicPr/>
          <p:nvPr/>
        </p:nvPicPr>
        <p:blipFill>
          <a:blip r:embed="rId1"/>
          <a:stretch/>
        </p:blipFill>
        <p:spPr>
          <a:xfrm>
            <a:off x="3571920" y="2500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429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ment divided between 10 ‘Strategic Health Authorities’ (SHA’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Developing plans for improving health services in their l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Making sure local health services are of a high quality and are performing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Increasing the capacity of local health services so they can provide mo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Making sure national priorities (for example, programmes for improving cancer services) are integrated into local health service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upload.wikimedia.org/wikipedia/en/9/91/England_Strategic_Health_Authorities_Numbered_2006.png"/>
          <p:cNvPicPr/>
          <p:nvPr/>
        </p:nvPicPr>
        <p:blipFill>
          <a:blip r:embed="rId1"/>
          <a:stretch/>
        </p:blipFill>
        <p:spPr>
          <a:xfrm>
            <a:off x="3571920" y="4214880"/>
            <a:ext cx="1797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760" y="64260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 divided into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Care Trusts (PC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imary care and public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spital Trusts and Foundations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spitals, treatment centres, specialist c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bulance services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ealth and soci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tal Health services tru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1.gstatic.com/images?q=tbn:Mb1JgPEptio-PM:http://www.bized.co.uk/images/healthcare.gif&amp;t=1"/>
          <p:cNvPicPr/>
          <p:nvPr/>
        </p:nvPicPr>
        <p:blipFill>
          <a:blip r:embed="rId1"/>
          <a:stretch/>
        </p:blipFill>
        <p:spPr>
          <a:xfrm>
            <a:off x="714240" y="857160"/>
            <a:ext cx="39546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raphic of NHS structure"/>
          <p:cNvPicPr/>
          <p:nvPr/>
        </p:nvPicPr>
        <p:blipFill>
          <a:blip r:embed="rId2"/>
          <a:stretch/>
        </p:blipFill>
        <p:spPr>
          <a:xfrm>
            <a:off x="4786200" y="3286080"/>
            <a:ext cx="3629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primary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see General Practitioners and den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80% of bud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 services from other trusts and private and voluntary s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see primary and secondary prevention, vaccination administration and control epide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Practitioners (GP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news.bbc.co.uk/olmedia/800000/images/_802738_gp300.jpg"/>
          <p:cNvPicPr/>
          <p:nvPr/>
        </p:nvPicPr>
        <p:blipFill>
          <a:blip r:embed="rId1"/>
          <a:stretch/>
        </p:blipFill>
        <p:spPr>
          <a:xfrm>
            <a:off x="3214800" y="1357200"/>
            <a:ext cx="3214440" cy="1928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928800" y="3500280"/>
            <a:ext cx="642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point of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ppoin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minute consul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mily doctor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refer to higher level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ient:GP ratio varies widely from 680 in the Western Isles to 3428 in Greater Derby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GP sees on average 140 patients per we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rma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rescription charge for medicines = £7.20 (England) (approx Rs 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over 60, under 16 (or 19 if in education) or with certain medical conditions are exempt from p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walk in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Di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throckley.gpsurgery.net/Webdesk/images/134088.gif"/>
          <p:cNvPicPr/>
          <p:nvPr/>
        </p:nvPicPr>
        <p:blipFill>
          <a:blip r:embed="rId1"/>
          <a:stretch/>
        </p:blipFill>
        <p:spPr>
          <a:xfrm>
            <a:off x="6357960" y="1285920"/>
            <a:ext cx="1714320" cy="117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t0.gstatic.com/images?q=tbn:0yUsVOHy0pnNGM:http://www.prlog.org/10176939-dentists.jpg&amp;t=1"/>
          <p:cNvPicPr/>
          <p:nvPr/>
        </p:nvPicPr>
        <p:blipFill>
          <a:blip r:embed="rId2"/>
          <a:stretch/>
        </p:blipFill>
        <p:spPr>
          <a:xfrm>
            <a:off x="3857760" y="26431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ute Hospital Tru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see hospitals and specialist care cen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cute trusts employ nurses, doctors, pharmacists, midwives and health visi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lso employ physiotherapists, radiographers, podiatrists, speech and language therapists, counsellors, occupational therapists, psychologists and healthcare scientis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Non-medical staff employed by acute trusts, include receptionists, porters, cleaners, specialists in information technology, managers, engineers, caterers and domestic and security staf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be a national centre for specialist care or attached to a un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ndation Tru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ype of hospital trust run by local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ilored to loc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financial and operational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ntralization of public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9 established since 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2.gstatic.com/images?q=tbn:iv72lA1cNrRGgM:http://www.dbh.nhs.uk/Library/MediaServicesImages/FT%20unveiling%20Brian%20Apr04.jpg&amp;t=1"/>
          <p:cNvPicPr/>
          <p:nvPr/>
        </p:nvPicPr>
        <p:blipFill>
          <a:blip r:embed="rId1"/>
          <a:stretch/>
        </p:blipFill>
        <p:spPr>
          <a:xfrm>
            <a:off x="6215040" y="43578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photos.ak.fbcdn.net/photos-ak-snc1/v574/235/61/508159275/n508159275_1676848_7470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214200" y="100008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classesandcareers.com/education/wp-content/uploads/cambridge.jpg"/>
          <p:cNvPicPr/>
          <p:nvPr/>
        </p:nvPicPr>
        <p:blipFill>
          <a:blip r:embed="rId2"/>
          <a:stretch/>
        </p:blipFill>
        <p:spPr>
          <a:xfrm>
            <a:off x="3857760" y="2786040"/>
            <a:ext cx="4674960" cy="350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t2.gstatic.com/images?q=tbn:ANd9GcRZOkWxKnhf0YknA5lgdvLTSyzUNZoUluBFb2L3tl2XhrybYkM&amp;t=1&amp;usg=__e0gdf7oqMdCD2i1kvJgQqoMcTtY="/>
          <p:cNvPicPr/>
          <p:nvPr/>
        </p:nvPicPr>
        <p:blipFill>
          <a:blip r:embed="rId3"/>
          <a:stretch/>
        </p:blipFill>
        <p:spPr>
          <a:xfrm>
            <a:off x="5357880" y="1000080"/>
            <a:ext cx="13381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ient Invol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200" spc="-1" strike="noStrike">
                <a:solidFill>
                  <a:srgbClr val="000000"/>
                </a:solidFill>
                <a:latin typeface="Calibri"/>
              </a:rPr>
              <a:t>Patient Advice and Liaison Service (PA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ient involvement in the N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ficers in all hospit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ice, support and information on health matters to patients, family and car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mediate complaints to N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INks- Local Involvement Netwo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 member of the community can become a member of a L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promote neglected issues, influence decisions, help community view be represented and help provide a better standard of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te health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d for largely by private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8% of population as an add-on to NHS health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is beginning to used the private sector to increase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2.gstatic.com/images?q=tbn:AGxOjxX8nQXHGM:http://www.healthcarenow.co.uk/HealthCareNow/Private-Healthcare-Edinburgh1.jpg&amp;t=1"/>
          <p:cNvPicPr/>
          <p:nvPr/>
        </p:nvPicPr>
        <p:blipFill>
          <a:blip r:embed="rId1"/>
          <a:stretch/>
        </p:blipFill>
        <p:spPr>
          <a:xfrm>
            <a:off x="4643280" y="4286160"/>
            <a:ext cx="34815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in the N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gs approved by NICE (National Institute for Health and Clinical Excell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it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b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pital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ing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hite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Equity and Excellence: Liberating the NHS 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unched on 1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July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oses radical changes to the N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s and PCTs to be phased out and GPs to be made responsible for health budget by joining commissioning consort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agement costs will be reduced so more resources to frontlin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s should be complete by 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g changes so keep an eye ou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liste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miley Face 3"/>
          <p:cNvSpPr/>
          <p:nvPr/>
        </p:nvSpPr>
        <p:spPr>
          <a:xfrm>
            <a:off x="4000680" y="3286080"/>
            <a:ext cx="1285560" cy="12859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760" y="1500120"/>
            <a:ext cx="7758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S = National Health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healthcare should be available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rimary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n-patient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long-term health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ophthal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t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core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at it meet the needs of every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at it be free at the point of deli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at it be based on clinical need, not ability to p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principles…(20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rovide a comprehensive range of servi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Shape its services around the needs and preferences of individual patients, their families and their care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Respond to the different needs of different popul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Work continuously to improve the quality of services and to minimize err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Support and value its staf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Use public funds for healthcare devoted solely to NHS pati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Work with others to ensure a seamless service for pati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Help to keep people healthy and work to reduce health inequal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Respect the confidentiality of individual patients and provide open access to information about services, treatment and performa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million 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s over 1.7 mill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120,000 hospital doctors, 40,000 general practitioners (GPs), 400,000 nurses and 25,000 ambulance sta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t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/09 budget = £98.6 b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£1980 per person (Rs 1386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% - pay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 - drugs and su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%- buildings, equipment, training, catering, cl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ed cent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England, Wales, Scotland and Northern Ireland managed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t2.gstatic.com/images?q=tbn:ANd9GcTYN47jL4__VtQQnXTRSF1VXIGVCgeuYt51D_8x7PLAKEQewJs&amp;t=1&amp;usg=__R3OC9Sy6RcpU3P0oMc-6pr2xevE="/>
          <p:cNvPicPr/>
          <p:nvPr/>
        </p:nvPicPr>
        <p:blipFill>
          <a:blip r:embed="rId1"/>
          <a:stretch/>
        </p:blipFill>
        <p:spPr>
          <a:xfrm>
            <a:off x="3286080" y="3357720"/>
            <a:ext cx="2214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2:53:10Z</dcterms:created>
  <dc:creator>user</dc:creator>
  <dc:description/>
  <dc:language>en-US</dc:language>
  <cp:lastModifiedBy>user</cp:lastModifiedBy>
  <dcterms:modified xsi:type="dcterms:W3CDTF">2007-06-08T16:15:21Z</dcterms:modified>
  <cp:revision>18</cp:revision>
  <dc:subject/>
  <dc:title>The National Health Service Healthcare in the United Kingdom</dc:title>
</cp:coreProperties>
</file>